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EF7-BF88-4906-9A2B-3C516F81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733-F967-461B-9119-46266FED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25C-4465-4B5E-A1E3-B3955866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672-F376-4A54-AA52-11183C32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832-50CF-4937-9D21-893B738B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A26-4C65-43F9-BC2A-DECD8C08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928-ECEE-4A73-BF5A-597F626E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AFC-F409-4A60-B630-1364CD6E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B3A1-AF22-449F-BBD5-552D1BD7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6D0-8E37-4F4E-9F55-0C39D0B5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086-E21A-4917-B955-3636C8D8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94E-0199-49D8-9939-62D797D8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86F0-B34D-4335-851E-16190571A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rtmug" descr=""/>
          <p:cNvPicPr/>
          <p:nvPr/>
        </p:nvPicPr>
        <p:blipFill>
          <a:blip r:embed="rId1"/>
          <a:stretch/>
        </p:blipFill>
        <p:spPr>
          <a:xfrm>
            <a:off x="4533840" y="152280"/>
            <a:ext cx="4381560" cy="655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76212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ell known Sesame Street Puppet, Bert, is changing his image and now is known 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l Ber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rry" descr=""/>
          <p:cNvPicPr/>
          <p:nvPr/>
        </p:nvPicPr>
        <p:blipFill>
          <a:blip r:embed="rId1"/>
          <a:stretch/>
        </p:blipFill>
        <p:spPr>
          <a:xfrm>
            <a:off x="1447920" y="1619280"/>
            <a:ext cx="6476760" cy="485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47920" y="34596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all started when he first made his appearance on the Jerry Springer S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j1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3429000" cy="2189160"/>
          </a:xfrm>
          <a:prstGeom prst="rect">
            <a:avLst/>
          </a:prstGeom>
          <a:ln w="0">
            <a:noFill/>
          </a:ln>
        </p:spPr>
      </p:pic>
      <p:pic>
        <p:nvPicPr>
          <p:cNvPr id="46" name="oj2" descr=""/>
          <p:cNvPicPr/>
          <p:nvPr/>
        </p:nvPicPr>
        <p:blipFill>
          <a:blip r:embed="rId2"/>
          <a:stretch/>
        </p:blipFill>
        <p:spPr>
          <a:xfrm>
            <a:off x="5638680" y="1752480"/>
            <a:ext cx="2971800" cy="2667240"/>
          </a:xfrm>
          <a:prstGeom prst="rect">
            <a:avLst/>
          </a:prstGeom>
          <a:ln w="0">
            <a:noFill/>
          </a:ln>
        </p:spPr>
      </p:pic>
      <p:pic>
        <p:nvPicPr>
          <p:cNvPr id="47" name="oj3" descr=""/>
          <p:cNvPicPr/>
          <p:nvPr/>
        </p:nvPicPr>
        <p:blipFill>
          <a:blip r:embed="rId3"/>
          <a:stretch/>
        </p:blipFill>
        <p:spPr>
          <a:xfrm>
            <a:off x="1981080" y="39625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457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claim that even though he wasn’t officially announced as one of the lawyers in the OJ Simpson trial he was heavily involved in leading the “Dream Team” to vi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resabert" descr=""/>
          <p:cNvPicPr/>
          <p:nvPr/>
        </p:nvPicPr>
        <p:blipFill>
          <a:blip r:embed="rId1"/>
          <a:stretch/>
        </p:blipFill>
        <p:spPr>
          <a:xfrm>
            <a:off x="3452760" y="228600"/>
            <a:ext cx="546264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981080"/>
            <a:ext cx="25909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’s made attempts to clean his image by pretending to do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e know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anic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933960" cy="4429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3352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shows that Bert is filled with nothing but evi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dia claims that the Titanic hit an iceberg but survivors speak otherwi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ert4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02240" cy="6172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114300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history stems back to the early 1900’s when the media found these pictures of Bert and Hitler in their archiv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den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5362560" cy="4442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60020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cent history, media shows Bert’s involvement with the Talaban Networ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ultimate proof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isplaced photo that was recently found on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m" descr=""/>
          <p:cNvPicPr/>
          <p:nvPr/>
        </p:nvPicPr>
        <p:blipFill>
          <a:blip r:embed="rId1"/>
          <a:stretch/>
        </p:blipFill>
        <p:spPr>
          <a:xfrm>
            <a:off x="609480" y="345960"/>
            <a:ext cx="7848720" cy="61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05:31:55Z</dcterms:created>
  <dc:creator>Victor Campos</dc:creator>
  <dc:description/>
  <dc:language>en-US</dc:language>
  <cp:lastModifiedBy>Victor Campos</cp:lastModifiedBy>
  <dcterms:modified xsi:type="dcterms:W3CDTF">2001-12-05T20:12:39Z</dcterms:modified>
  <cp:revision>2</cp:revision>
  <dc:subject/>
  <dc:title>PowerPoint Presentation</dc:title>
</cp:coreProperties>
</file>